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2C9-3698-43C4-AD81-529CD58E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A4F-E6F8-49EE-BBA0-AABB141C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0D4-5C14-41D1-951E-67E98FA9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C02-3ABF-450B-9D5D-6DE53306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D30-0936-4D6A-9761-F577A8FC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58D-6FEC-4AEB-8E27-063E4525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6A7-17A3-450B-BC19-98D6BEBC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83A-85F3-4898-97E3-8F61BFD2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289-44CE-4EF7-A784-6315E7C3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40C-AB9D-4901-A11C-FF0B7065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38A-B73F-4250-857C-B82C6C2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47D-0C68-4906-A863-CB61229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2733-A1A5-4F70-9FDE-82D3A69B91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3"/>
          <p:cNvSpPr/>
          <p:nvPr/>
        </p:nvSpPr>
        <p:spPr>
          <a:xfrm>
            <a:off x="1908000" y="1341360"/>
            <a:ext cx="1440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3137400" y="83664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ahoo profit &amp;loss ac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22315" t="12475" r="23488" b="11845"/>
          <a:stretch/>
        </p:blipFill>
        <p:spPr>
          <a:xfrm>
            <a:off x="179280" y="115920"/>
            <a:ext cx="84391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3"/>
          <p:cNvSpPr/>
          <p:nvPr/>
        </p:nvSpPr>
        <p:spPr>
          <a:xfrm>
            <a:off x="1908000" y="1341360"/>
            <a:ext cx="1440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137760" y="83664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ahoo balance sheet - ass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rcRect l="22533" t="11983" r="23137" b="9902"/>
          <a:stretch/>
        </p:blipFill>
        <p:spPr>
          <a:xfrm>
            <a:off x="723960" y="260280"/>
            <a:ext cx="795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eck 3"/>
          <p:cNvSpPr/>
          <p:nvPr/>
        </p:nvSpPr>
        <p:spPr>
          <a:xfrm>
            <a:off x="1908000" y="1341360"/>
            <a:ext cx="1440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21864" t="10723" r="23042" b="7662"/>
          <a:stretch/>
        </p:blipFill>
        <p:spPr>
          <a:xfrm>
            <a:off x="755640" y="260280"/>
            <a:ext cx="77040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6:20:21Z</dcterms:created>
  <dc:creator>Joachim Häcker</dc:creator>
  <dc:description/>
  <dc:language>en-US</dc:language>
  <cp:lastModifiedBy>Joachim Häcker</cp:lastModifiedBy>
  <dcterms:modified xsi:type="dcterms:W3CDTF">2012-01-19T11:31:01Z</dcterms:modified>
  <cp:revision>7</cp:revision>
  <dc:subject/>
  <dc:title>PowerPoint-Präsentation</dc:title>
</cp:coreProperties>
</file>